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458-4920-48F6-A620-39E74E17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FE3-4E8B-485D-9317-3437103B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954-4947-40EB-82C3-D1B870A9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188-5DC8-4BF0-B337-6F576082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38F-860E-4490-ACA4-CFD9A814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4FE-DA86-46C6-BC2D-198339A8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14C-68DA-4CED-9345-02FEACB3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08B-AB8C-4C04-8786-F06E6174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720-C7A5-4E36-8884-E24757D7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DB7-E0B9-489A-BB08-525E28F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C77-16CA-450E-9BEA-01B18C3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1C9-1DD6-49A5-BFD9-4BA8F60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47E5-9EFF-4E94-89A0-C6B39B2A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61.xml"/><Relationship Id="rId29" Type="http://schemas.openxmlformats.org/officeDocument/2006/relationships/slide" Target="slide63.xml"/><Relationship Id="rId30" Type="http://schemas.openxmlformats.org/officeDocument/2006/relationships/slide" Target="slide65.xml"/><Relationship Id="rId31" Type="http://schemas.openxmlformats.org/officeDocument/2006/relationships/slide" Target="slide67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Jeopardy_Think_Music.mp3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gag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9072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vey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's opin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133720" y="31240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838080" y="152388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by an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and then offered for s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everyone in an industry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523880" y="23623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14400" y="1676520"/>
            <a:ext cx="7315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ff researchers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k with exter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genci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ent-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job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ctions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523880" y="990720"/>
            <a:ext cx="5943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 surve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ther info about 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ck s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ze advertising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recommendations abou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mo, distrib, design &amp; 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rst of seven step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Market Research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295280" y="1523880"/>
            <a:ext cx="70106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143000" y="1676520"/>
            <a:ext cx="6781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over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Probl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62120" y="1828800"/>
            <a:ext cx="7696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mall # representat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large group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219320" y="1523880"/>
            <a:ext cx="67053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nge of pri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for a categ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erchandis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st step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838080" y="1828800"/>
            <a:ext cx="74678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aluat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3962520" y="5791320"/>
            <a:ext cx="1447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838080" y="1828800"/>
            <a:ext cx="7543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use of powerfu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ers to "dig-up"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ed to make decis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828800" y="24382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914400" y="18288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fically focused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ingle target marke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83808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s of other comple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re used to hel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371600" y="1828800"/>
            <a:ext cx="6477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914400" y="23623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usiness is 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1447920" y="22096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609480" y="2133720"/>
            <a:ext cx="79250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to deter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 and effect relationship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blem is already clearly defin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990720" y="18288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0384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143000" y="15238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usiness is un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exact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447920" y="2362320"/>
            <a:ext cx="62481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ora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762120" y="1905120"/>
            <a:ext cx="7772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way a produc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iated i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ds of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thei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2819520"/>
            <a:ext cx="5639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09480" y="2286000"/>
            <a:ext cx="8077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cess by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s are implemen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905120" y="2286000"/>
            <a:ext cx="5333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685800" y="1676520"/>
            <a:ext cx="7772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jor events where rel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dustries meet to exhib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products, exchange idea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earn about the lastest trend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133720" y="19810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7339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09480" y="2362320"/>
            <a:ext cx="807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you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2133720"/>
            <a:ext cx="5333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llig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41148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09480" y="1676520"/>
            <a:ext cx="7848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ur sour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we can 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information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r competito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95280" y="1371600"/>
            <a:ext cx="6324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 Sho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09480" y="1828800"/>
            <a:ext cx="8001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ecisely written docu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escribes the tactic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 that will be us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market the produ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66680" y="2057400"/>
            <a:ext cx="7239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828800" y="1219320"/>
            <a:ext cx="5410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1752480"/>
            <a:ext cx="7924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ing the information 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t has meaning and dra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clusions that relate to the def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289548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re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914400" y="25146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 marketing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ed to solv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838080" y="1981080"/>
            <a:ext cx="76201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 at which a 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s contact with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websites, email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ne calls or advertis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28800" y="29718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ch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143000" y="228600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ad group of consume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not targete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40384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85800" y="2057400"/>
            <a:ext cx="7924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s the n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busine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reason it exis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1219320"/>
            <a:ext cx="7391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762120" y="1676520"/>
            <a:ext cx="76960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sales potential for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 product is tried in a re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ther small market prior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s final release nationall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066680" y="1752480"/>
            <a:ext cx="70866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the product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has avail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customers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one tim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905120" y="1981080"/>
            <a:ext cx="5257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foli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990720" y="21337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hree maj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nents to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371600" y="1523880"/>
            <a:ext cx="6629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685800" y="1905120"/>
            <a:ext cx="7848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of the 5 top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ered under 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1143000" y="152388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l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gnment of Responsibili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Commun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iew &amp; Evalu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762120" y="3505320"/>
            <a:ext cx="746748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is the differenc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between Market Research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&amp; Marketing Research?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41" name="Jeopardy_Think_Music.mp3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23880" y="20574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914400" y="114300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- conducted specificall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r target market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- conducted to solve broad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ope of marketing problem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1">
            <a:hlinkClick r:id="rId2"/>
          </p:cNvPr>
          <p:cNvSpPr/>
          <p:nvPr/>
        </p:nvSpPr>
        <p:spPr>
          <a:xfrm>
            <a:off x="6094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76720" y="38088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724280" y="3049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4">
            <a:hlinkClick r:id="rId32" action="ppaction://hlinksldjump"/>
          </p:cNvPr>
          <p:cNvSpPr/>
          <p:nvPr/>
        </p:nvSpPr>
        <p:spPr>
          <a:xfrm>
            <a:off x="8763120" y="64771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10666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eat customers who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letely loyal to the company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s are known a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sundlin</cp:lastModifiedBy>
  <dcterms:modified xsi:type="dcterms:W3CDTF">2011-02-04T20:05:16Z</dcterms:modified>
  <cp:revision>71</cp:revision>
  <dc:subject/>
  <dc:title>No Slide Title</dc:title>
</cp:coreProperties>
</file>